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456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9CDD-2A69-40C7-8B32-7416F694F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4D93-54FE-4F56-85C2-CE1915F6E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55AE-64D3-4130-9162-5AAFE578D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8B66-5CA2-4BC4-AAB7-ECFFED731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6E33-7ABB-4F35-8C21-D4862DE29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CEEF7-EC97-482B-9DB7-18CF1BBA6C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31115-876D-429E-B66B-D0C5E3A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89554-4C4C-403A-B3FA-71000929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0B4F8-E110-4D21-9265-4C11C38D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98708-63B4-432C-B82D-69EB0D17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313F-54A5-45AA-8912-D64A3C0ABD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21338-745A-4CF1-BB78-865C7303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B3EF7-21F0-4D60-B4E4-0C2F3188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9BDE4-123F-45E8-A758-6828BCED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9B790-BC8D-4F43-BF60-2D5602F6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3F9EA-DC64-4512-BF49-F44E0001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12DA8-B092-485A-9774-8DDE839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7D141-2779-45FA-8CCB-F52762EAF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E036-0B24-413C-980A-403A2291A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7BBF-C0BD-4168-AD35-FF394EE59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F678-5828-4383-8FAC-332D3DD0D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0829-AAA2-4498-A679-D8F043224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67F1-56FF-43DC-96EA-4570F7834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A9D7-1391-41D4-895C-CBC7BF4BE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609960"/>
            <a:ext cx="609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AB69-6F3E-4C93-8BF8-4D53EC78C1F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2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9" descr=""/>
          <p:cNvPicPr/>
          <p:nvPr/>
        </p:nvPicPr>
        <p:blipFill>
          <a:blip r:embed="rId2"/>
          <a:srcRect l="0" t="11111" r="3298" b="30791"/>
          <a:stretch/>
        </p:blipFill>
        <p:spPr>
          <a:xfrm>
            <a:off x="380880" y="0"/>
            <a:ext cx="2819520" cy="482760"/>
          </a:xfrm>
          <a:prstGeom prst="rect">
            <a:avLst/>
          </a:prstGeom>
          <a:ln w="0">
            <a:noFill/>
          </a:ln>
        </p:spPr>
      </p:pic>
      <p:sp>
        <p:nvSpPr>
          <p:cNvPr id="5" name="Line 30"/>
          <p:cNvSpPr/>
          <p:nvPr/>
        </p:nvSpPr>
        <p:spPr>
          <a:xfrm>
            <a:off x="250920" y="63244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1"/>
          <p:cNvSpPr/>
          <p:nvPr/>
        </p:nvSpPr>
        <p:spPr>
          <a:xfrm>
            <a:off x="914400" y="457200"/>
            <a:ext cx="203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808080"/>
                </a:solidFill>
                <a:latin typeface="Arial"/>
              </a:rPr>
              <a:t>INVESTICE DO ROZVOJE VZDĚLÁVÁN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2"/>
          <p:cNvSpPr/>
          <p:nvPr/>
        </p:nvSpPr>
        <p:spPr>
          <a:xfrm>
            <a:off x="6248520" y="90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u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31" descr="P:\Data_KVS\_simulanti\_Educom\Logolink Logo\Educom logo.wmf"/>
          <p:cNvPicPr/>
          <p:nvPr/>
        </p:nvPicPr>
        <p:blipFill>
          <a:blip r:embed="rId3"/>
          <a:stretch/>
        </p:blipFill>
        <p:spPr>
          <a:xfrm>
            <a:off x="8077320" y="0"/>
            <a:ext cx="609480" cy="582480"/>
          </a:xfrm>
          <a:prstGeom prst="rect">
            <a:avLst/>
          </a:prstGeom>
          <a:ln w="0">
            <a:noFill/>
          </a:ln>
        </p:spPr>
      </p:pic>
      <p:sp>
        <p:nvSpPr>
          <p:cNvPr id="9" name="Text Box 62"/>
          <p:cNvSpPr/>
          <p:nvPr/>
        </p:nvSpPr>
        <p:spPr>
          <a:xfrm>
            <a:off x="6477120" y="6324480"/>
            <a:ext cx="241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Projekt Edu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ww.kvs.tul.cz/Edu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63"/>
          <p:cNvSpPr/>
          <p:nvPr/>
        </p:nvSpPr>
        <p:spPr>
          <a:xfrm>
            <a:off x="3124080" y="6324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ento projekt je financován evropským sociálním fondem a státním rozpočtem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0"/>
          <p:cNvSpPr/>
          <p:nvPr/>
        </p:nvSpPr>
        <p:spPr>
          <a:xfrm>
            <a:off x="250920" y="63244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2"/>
          <p:cNvSpPr/>
          <p:nvPr/>
        </p:nvSpPr>
        <p:spPr>
          <a:xfrm>
            <a:off x="6248520" y="90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u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1" descr="P:\Data_KVS\_simulanti\_Educom\Logolink Logo\Educom logo.wmf"/>
          <p:cNvPicPr/>
          <p:nvPr/>
        </p:nvPicPr>
        <p:blipFill>
          <a:blip r:embed="rId2"/>
          <a:stretch/>
        </p:blipFill>
        <p:spPr>
          <a:xfrm>
            <a:off x="8077320" y="0"/>
            <a:ext cx="609480" cy="582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2"/>
          <p:cNvSpPr/>
          <p:nvPr/>
        </p:nvSpPr>
        <p:spPr>
          <a:xfrm>
            <a:off x="6477120" y="6324480"/>
            <a:ext cx="241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Projekt Edu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ww.kvs.tul.cz/Edu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3"/>
          <p:cNvSpPr/>
          <p:nvPr/>
        </p:nvSpPr>
        <p:spPr>
          <a:xfrm>
            <a:off x="3124080" y="6324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ento projekt je financován evropským sociálním fondem a státním rozpočtem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9" descr="C:\Users\JAN_VA~1\AppData\Local\Temp\_tc\Zakladni_logolink_OPVK (ESF, EU, MSMT, OP VK)\01_Zakladni_logolink_horizontalni_cz\OPVK_hor_zakladni_logolink_CMYK_cz.tif"/>
          <p:cNvPicPr/>
          <p:nvPr/>
        </p:nvPicPr>
        <p:blipFill>
          <a:blip r:embed="rId3"/>
          <a:stretch/>
        </p:blipFill>
        <p:spPr>
          <a:xfrm>
            <a:off x="463680" y="0"/>
            <a:ext cx="2717640" cy="593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228240" y="60199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B6F1-3AE6-4408-943E-C5A7931B9A67}" type="datetime"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250920" y="63244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914400" y="457200"/>
            <a:ext cx="203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808080"/>
                </a:solidFill>
                <a:latin typeface="Arial"/>
              </a:rPr>
              <a:t>INVESTICE DO ROZVOJE VZDĚLÁVÁN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6248520" y="90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u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1" descr="P:\Data_KVS\_simulanti\_Educom\Logolink Logo\Educom logo.wmf"/>
          <p:cNvPicPr/>
          <p:nvPr/>
        </p:nvPicPr>
        <p:blipFill>
          <a:blip r:embed="rId2"/>
          <a:stretch/>
        </p:blipFill>
        <p:spPr>
          <a:xfrm>
            <a:off x="8077320" y="0"/>
            <a:ext cx="609480" cy="582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2"/>
          <p:cNvSpPr/>
          <p:nvPr/>
        </p:nvSpPr>
        <p:spPr>
          <a:xfrm>
            <a:off x="6477120" y="6324480"/>
            <a:ext cx="241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Projekt Edu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ww.kvs.tul.cz/Edu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3"/>
          <p:cNvSpPr/>
          <p:nvPr/>
        </p:nvSpPr>
        <p:spPr>
          <a:xfrm>
            <a:off x="3124080" y="6324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ento projekt je financován evropským sociálním fondem a státním rozpočtem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9" descr="C:\Users\JAN_VA~1\AppData\Local\Temp\_tc\Zakladni_logolink_OPVK (ESF, EU, MSMT, OP VK)\01_Zakladni_logolink_horizontalni_cz\OPVK_hor_zakladni_logolink_CMYK_cz.tif"/>
          <p:cNvPicPr/>
          <p:nvPr/>
        </p:nvPicPr>
        <p:blipFill>
          <a:blip r:embed="rId3"/>
          <a:stretch/>
        </p:blipFill>
        <p:spPr>
          <a:xfrm>
            <a:off x="0" y="0"/>
            <a:ext cx="2717640" cy="5936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21"/>
          <p:cNvSpPr/>
          <p:nvPr/>
        </p:nvSpPr>
        <p:spPr>
          <a:xfrm>
            <a:off x="3543480" y="1522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mět nebo jeho zkrat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1371600" y="632448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Jméno příjmení lekto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el.: +420 485 35X 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e–mail: jmeno.prijmeni@tul.c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3"/>
          </p:nvPr>
        </p:nvSpPr>
        <p:spPr>
          <a:xfrm>
            <a:off x="228240" y="63241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B2B-116A-4162-B825-51812F8DF860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4"/>
          </p:nvPr>
        </p:nvSpPr>
        <p:spPr>
          <a:xfrm>
            <a:off x="228240" y="6609960"/>
            <a:ext cx="6094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CEA6-1553-46F2-B06A-8EDC51D046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bdélník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876920" y="304920"/>
            <a:ext cx="335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Tento materiál vznikl jako součást projektu EduCom, který je spolufinancován Evropským sociálním fondem a státním rozpočtem Č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576360" y="1219320"/>
            <a:ext cx="7991280" cy="1556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  <a:ea typeface="Arial"/>
              </a:rPr>
              <a:t>Process Simu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  <a:ea typeface="Arial"/>
              </a:rPr>
              <a:t>Příkl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0" y="2874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g. Tomáš K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chnická univerzita v Lib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1" descr="P:\Data_KVS\_simulanti\_Educom\Logolink Logo\Educom logo.wmf"/>
          <p:cNvPicPr/>
          <p:nvPr/>
        </p:nvPicPr>
        <p:blipFill>
          <a:blip r:embed="rId1"/>
          <a:stretch/>
        </p:blipFill>
        <p:spPr>
          <a:xfrm>
            <a:off x="3686040" y="3657600"/>
            <a:ext cx="1771920" cy="1693800"/>
          </a:xfrm>
          <a:prstGeom prst="rect">
            <a:avLst/>
          </a:prstGeom>
          <a:ln w="0">
            <a:noFill/>
          </a:ln>
        </p:spPr>
      </p:pic>
      <p:sp>
        <p:nvSpPr>
          <p:cNvPr id="148" name="TextovéPole 32"/>
          <p:cNvSpPr/>
          <p:nvPr/>
        </p:nvSpPr>
        <p:spPr>
          <a:xfrm>
            <a:off x="571680" y="5410080"/>
            <a:ext cx="800100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dmě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531720" y="5989680"/>
            <a:ext cx="36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chnická univerzita v Liberci a partneř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eciosa, a.s. a TOS Varnsdorf a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4173480" y="1081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0" y="1952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9" descr="C:\Users\JAN_VA~1\AppData\Local\Temp\_tc\Zakladni_logolink_OPVK (ESF, EU, MSMT, OP VK)\01_Zakladni_logolink_horizontalni_cz\OPVK_hor_zakladni_logolink_CMYK_cz.tif"/>
          <p:cNvPicPr/>
          <p:nvPr/>
        </p:nvPicPr>
        <p:blipFill>
          <a:blip r:embed="rId2"/>
          <a:stretch/>
        </p:blipFill>
        <p:spPr>
          <a:xfrm>
            <a:off x="581040" y="228600"/>
            <a:ext cx="4187880" cy="914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0" descr="V:\konf10\image\sponzorpreciosa.gif"/>
          <p:cNvPicPr/>
          <p:nvPr/>
        </p:nvPicPr>
        <p:blipFill>
          <a:blip r:embed="rId3"/>
          <a:stretch/>
        </p:blipFill>
        <p:spPr>
          <a:xfrm>
            <a:off x="6095880" y="5886360"/>
            <a:ext cx="895320" cy="743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4"/>
          <a:stretch/>
        </p:blipFill>
        <p:spPr>
          <a:xfrm>
            <a:off x="7238880" y="5943600"/>
            <a:ext cx="1316160" cy="630360"/>
          </a:xfrm>
          <a:prstGeom prst="rect">
            <a:avLst/>
          </a:prstGeom>
          <a:ln w="0">
            <a:noFill/>
          </a:ln>
        </p:spPr>
      </p:pic>
      <p:grpSp>
        <p:nvGrpSpPr>
          <p:cNvPr id="155" name="Skupina 16"/>
          <p:cNvGrpSpPr/>
          <p:nvPr/>
        </p:nvGrpSpPr>
        <p:grpSpPr>
          <a:xfrm>
            <a:off x="4804920" y="5856120"/>
            <a:ext cx="766080" cy="773280"/>
            <a:chOff x="4804920" y="5856120"/>
            <a:chExt cx="766080" cy="773280"/>
          </a:xfrm>
        </p:grpSpPr>
        <p:sp>
          <p:nvSpPr>
            <p:cNvPr id="156" name="Rectangle 35"/>
            <p:cNvSpPr/>
            <p:nvPr/>
          </p:nvSpPr>
          <p:spPr>
            <a:xfrm>
              <a:off x="4804920" y="5856120"/>
              <a:ext cx="76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TU v Liberc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3" descr=""/>
            <p:cNvPicPr/>
            <p:nvPr/>
          </p:nvPicPr>
          <p:blipFill>
            <a:blip r:embed="rId5"/>
            <a:stretch/>
          </p:blipFill>
          <p:spPr>
            <a:xfrm>
              <a:off x="4888440" y="6042240"/>
              <a:ext cx="58644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ákladní ope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rat člověka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Walk Cre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cestu jistější Select Path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ath Cre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ok 550 – 750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 nadefinování c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reate 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304B-3164-41A6-B1B6-130C2F85B7A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1A37-D74A-4536-8CA6-E233607382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267160" y="2971800"/>
            <a:ext cx="33433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th Cre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cation1 výchozí místo chů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d to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Location mohou být pro složitější ce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8426-131A-417D-BEF4-D4679C2FC8F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5069-58C9-4ED9-8C3A-CEB0102DD7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4191120" y="3368520"/>
            <a:ext cx="39621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chopení objekt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 Gr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vytvoření obecného úch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ereme člověka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uto Gr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CDE1-6E79-4515-B22F-25B30C7DE0B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EBC1-2CB6-4DB1-B6C1-AF78CBC5DA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94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chopení objekt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1294920"/>
            <a:ext cx="56386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bereme Righ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škrtneme Fix other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škrtneme Precision gr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ikneme do políčka Object a vybereme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í Man Jog upravíme polohu úcho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reate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BB2F-7380-48A6-A657-A3EC60CAEF4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8839-BD2D-4FD1-9438-AA9591F738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5622840" y="2895480"/>
            <a:ext cx="3521160" cy="3372120"/>
          </a:xfrm>
          <a:prstGeom prst="rect">
            <a:avLst/>
          </a:prstGeom>
          <a:ln w="0">
            <a:noFill/>
          </a:ln>
        </p:spPr>
      </p:pic>
      <p:cxnSp>
        <p:nvCxnSpPr>
          <p:cNvPr id="237" name="Přímá spojovací šipka 8"/>
          <p:cNvCxnSpPr/>
          <p:nvPr/>
        </p:nvCxnSpPr>
        <p:spPr>
          <a:xfrm flipH="1">
            <a:off x="7466760" y="2209320"/>
            <a:ext cx="305640" cy="2057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TextovéPole 9"/>
          <p:cNvSpPr/>
          <p:nvPr/>
        </p:nvSpPr>
        <p:spPr>
          <a:xfrm>
            <a:off x="685800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nipulace s objek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ac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jakoukoliv manipulaci, či přesu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9729-3668-4488-B7AD-34E4C90DCAF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3772-D975-4EEB-BC35-7D76827FF5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548080" y="2362320"/>
            <a:ext cx="4047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nipulace s objek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vednutí/položení ob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ition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přesun ob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ition Follow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lation to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rry (Follow pouze při tlačení voz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řípadě že budeme mít několik operací za se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škrtnout Release object at end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A690-3F0B-4D5F-879A-78F582A3A3B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2924-1F0E-473C-A037-4463AF8DBA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nipulace s objek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bereme příslušnou ruku (Right/Left/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ikneme do políčka Object a vybereme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můžeme přesouvat a značit pozice včetně polohy, ve které se nacház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íme pomoc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d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reate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442-B5BF-4FF6-9BA1-D651D4332C6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AEA9-E189-4D14-9748-B79C543284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óz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294920"/>
            <a:ext cx="4572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man pos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změnu pózy člově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manipulovat je jednotlivými částmi člově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int Jog + Man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uman Motion znehybňuje části tě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4DB9-9EBB-4296-921B-0F8873E93D7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AF68-3542-4D3B-84DA-498AA47961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638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94920"/>
            <a:ext cx="4572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ur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definované pózy člově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vytvářet své vlast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4AF0-4FCE-4549-B93F-DB3D1370241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34A5-70D8-45A5-A425-0A728CC97C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048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navrácení polohy člověka po položení ob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me Human Posturing nebo Posturing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uman Pos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stavíme požadovanou polo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reate 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r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bereme Stand Rel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reate 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3963-5C81-43E6-ADA3-5492EE7A6E7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89F1-E90B-45AB-B8B3-CA54B0EC35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  <a:ea typeface="Arial"/>
              </a:rPr>
              <a:t>Simulac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  <a:ea typeface="Arial"/>
              </a:rPr>
              <a:t>člově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F47-A4AB-468F-A7C5-BEFFF230F7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datum 4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6E66-D842-4A0B-8C0C-FDD188EF2FD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ůběh simul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odsimul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tné resetovat v Sekvence Edi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akrát kliknout na Snap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iknout n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BDA2-A265-4F4B-A333-524086828ED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E6E4-5BB7-4184-ADCE-04AC55D875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8734320" cy="170496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ovací šipka 7"/>
          <p:cNvCxnSpPr/>
          <p:nvPr/>
        </p:nvCxnSpPr>
        <p:spPr>
          <a:xfrm>
            <a:off x="1371600" y="4114800"/>
            <a:ext cx="53424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Přímá spojovací šipka 9"/>
          <p:cNvCxnSpPr>
            <a:stCxn id="273" idx="2"/>
          </p:cNvCxnSpPr>
          <p:nvPr/>
        </p:nvCxnSpPr>
        <p:spPr>
          <a:xfrm flipH="1">
            <a:off x="3123360" y="4133880"/>
            <a:ext cx="343800" cy="591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TextovéPole 11"/>
          <p:cNvSpPr/>
          <p:nvPr/>
        </p:nvSpPr>
        <p:spPr>
          <a:xfrm>
            <a:off x="533520" y="3733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ovéPole 12"/>
          <p:cNvSpPr/>
          <p:nvPr/>
        </p:nvSpPr>
        <p:spPr>
          <a:xfrm>
            <a:off x="2666880" y="3733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ložení do databá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uložení je třeba provés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C7F2-1582-4C86-B99B-86E891B91F31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B67D-70B3-4A15-937B-23FD4CCDC2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324320" cy="1373040"/>
          </a:xfrm>
          <a:prstGeom prst="rect">
            <a:avLst/>
          </a:prstGeom>
          <a:ln w="0">
            <a:noFill/>
          </a:ln>
        </p:spPr>
      </p:pic>
      <p:cxnSp>
        <p:nvCxnSpPr>
          <p:cNvPr id="280" name="Přímá spojovací šipka 9"/>
          <p:cNvCxnSpPr/>
          <p:nvPr/>
        </p:nvCxnSpPr>
        <p:spPr>
          <a:xfrm flipH="1" flipV="1">
            <a:off x="3428280" y="2894760"/>
            <a:ext cx="76284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2743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klad sestavení parního stro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9B94-A5D7-4859-B8F0-B682E213398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F48F-A394-490B-A198-E87D819B7D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rcRect l="0" t="45749" r="0" b="0"/>
          <a:stretch/>
        </p:blipFill>
        <p:spPr>
          <a:xfrm>
            <a:off x="5105520" y="1308240"/>
            <a:ext cx="3581280" cy="4817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2"/>
          <a:srcRect l="0" t="0" r="0" b="54256"/>
          <a:stretch/>
        </p:blipFill>
        <p:spPr>
          <a:xfrm>
            <a:off x="380880" y="1295280"/>
            <a:ext cx="4300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ovéPole 2"/>
          <p:cNvSpPr/>
          <p:nvPr/>
        </p:nvSpPr>
        <p:spPr>
          <a:xfrm>
            <a:off x="1257480" y="4417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to přednáška byla inovována v rámci projektu EduCom  CZ.1.07/2.2.00/15.00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duCom - Inovace studijních programů s ohledem na požadavky a potřeby průmyslové praxe zavedením inovativního vzdělávacího systému "Výukový podnik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1" descr="P:\Data_KVS\_simulanti\_Educom\Logolink Logo\Educom logo.wmf"/>
          <p:cNvPicPr/>
          <p:nvPr/>
        </p:nvPicPr>
        <p:blipFill>
          <a:blip r:embed="rId1"/>
          <a:stretch/>
        </p:blipFill>
        <p:spPr>
          <a:xfrm>
            <a:off x="3686040" y="2581200"/>
            <a:ext cx="1771920" cy="1693800"/>
          </a:xfrm>
          <a:prstGeom prst="rect">
            <a:avLst/>
          </a:prstGeom>
          <a:ln w="0">
            <a:noFill/>
          </a:ln>
        </p:spPr>
      </p:pic>
      <p:sp>
        <p:nvSpPr>
          <p:cNvPr id="290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3785-6285-4A05-A083-F7993E4E21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ástupný symbol pro datum 5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D32-26A6-404C-932B-1ED06CA6B72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87A2-F878-4DC7-AEE7-53AC749DF3F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0011-3440-4DA8-926D-91DFC236AD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k_and_Place.avi" descr=""/>
          <p:cNvPicPr/>
          <p:nvPr/>
        </p:nvPicPr>
        <p:blipFill>
          <a:blip r:embed="rId1"/>
          <a:stretch/>
        </p:blipFill>
        <p:spPr>
          <a:xfrm>
            <a:off x="1649520" y="1371600"/>
            <a:ext cx="5844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667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napshot Edi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94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ůležitější nástroj Tecnomatix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chytává aktuální scé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7DCF-7DF5-45D8-A794-4AA22D1124A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18A3-2172-40A6-861E-57411A7620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2438280"/>
            <a:ext cx="429912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rcRect l="0" t="0" r="57640" b="0"/>
          <a:stretch/>
        </p:blipFill>
        <p:spPr>
          <a:xfrm>
            <a:off x="5181480" y="2819520"/>
            <a:ext cx="3444840" cy="2286000"/>
          </a:xfrm>
          <a:prstGeom prst="rect">
            <a:avLst/>
          </a:prstGeom>
          <a:ln w="0">
            <a:noFill/>
          </a:ln>
        </p:spPr>
      </p:pic>
      <p:cxnSp>
        <p:nvCxnSpPr>
          <p:cNvPr id="172" name="Přímá spojovací šipka 11"/>
          <p:cNvCxnSpPr/>
          <p:nvPr/>
        </p:nvCxnSpPr>
        <p:spPr>
          <a:xfrm flipH="1">
            <a:off x="7009560" y="2514240"/>
            <a:ext cx="3056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extovéPole 12"/>
          <p:cNvSpPr/>
          <p:nvPr/>
        </p:nvSpPr>
        <p:spPr>
          <a:xfrm>
            <a:off x="6324480" y="2133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de zaškrtnou vš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13"/>
          <p:cNvSpPr/>
          <p:nvPr/>
        </p:nvSpPr>
        <p:spPr>
          <a:xfrm>
            <a:off x="4343400" y="5181480"/>
            <a:ext cx="4648320" cy="9169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 rozvržení na scéně – udělat snapsho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ude výchozím bodem pro simul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ožení modelu člověk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nutné mít v Process Designeru naimportovanou knihovnu s Jack.c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8B0-C6D2-48BC-A259-A9FD451E0E0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C9A8-30A5-4192-9D22-2E42E72E8D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419720" cy="2209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5541840" y="2362320"/>
            <a:ext cx="284004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6222-18F3-48F6-AB55-E56A39B5169A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C81F-BED5-445B-8E3D-24AA79D7A4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15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ožení dílu na stů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acement Manip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prve provést relocate, poté doladit polohu Placement Manip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A1F2-ECFE-463B-A466-AA241F718DD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47A7-8DE4-4833-A6A6-4446868AB6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1162080" cy="766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2286000" cy="1527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6705720" y="4800600"/>
            <a:ext cx="1019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ákladní ope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prve je nutné vytvořit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perac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Compound Operation)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stromové struktu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9756-896F-4589-868A-ADA5A059DF6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28BF-52B7-4B4B-8A62-88690DFDF6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699160" cy="160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1066680" y="4495680"/>
            <a:ext cx="2743200" cy="1613160"/>
          </a:xfrm>
          <a:prstGeom prst="rect">
            <a:avLst/>
          </a:prstGeom>
          <a:ln w="0">
            <a:noFill/>
          </a:ln>
        </p:spPr>
      </p:pic>
      <p:sp>
        <p:nvSpPr>
          <p:cNvPr id="198" name="Elipsa 7"/>
          <p:cNvSpPr/>
          <p:nvPr/>
        </p:nvSpPr>
        <p:spPr>
          <a:xfrm>
            <a:off x="1600200" y="5562720"/>
            <a:ext cx="121932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2441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uman ope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C91C-AAF0-4DB8-B8D2-9A3126B01E6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5B3-6322-43FA-87AE-BE393A7EA0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477800" y="3276720"/>
            <a:ext cx="6188400" cy="1782720"/>
          </a:xfrm>
          <a:prstGeom prst="rect">
            <a:avLst/>
          </a:prstGeom>
          <a:ln w="0">
            <a:noFill/>
          </a:ln>
        </p:spPr>
      </p:pic>
      <p:sp>
        <p:nvSpPr>
          <p:cNvPr id="204" name="TextovéPole 6"/>
          <p:cNvSpPr/>
          <p:nvPr/>
        </p:nvSpPr>
        <p:spPr>
          <a:xfrm>
            <a:off x="533520" y="243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alk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7"/>
          <p:cNvSpPr/>
          <p:nvPr/>
        </p:nvSpPr>
        <p:spPr>
          <a:xfrm>
            <a:off x="2438280" y="1900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 Gr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ovéPole 8"/>
          <p:cNvSpPr/>
          <p:nvPr/>
        </p:nvSpPr>
        <p:spPr>
          <a:xfrm>
            <a:off x="3962520" y="250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c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ovéPole 9"/>
          <p:cNvSpPr/>
          <p:nvPr/>
        </p:nvSpPr>
        <p:spPr>
          <a:xfrm>
            <a:off x="609480" y="5710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ure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ovéPole 10"/>
          <p:cNvSpPr/>
          <p:nvPr/>
        </p:nvSpPr>
        <p:spPr>
          <a:xfrm>
            <a:off x="5943600" y="190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uman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Přímá spojovací šipka 12"/>
          <p:cNvCxnSpPr>
            <a:stCxn id="204" idx="2"/>
          </p:cNvCxnSpPr>
          <p:nvPr/>
        </p:nvCxnSpPr>
        <p:spPr>
          <a:xfrm>
            <a:off x="1562040" y="2895120"/>
            <a:ext cx="572400" cy="83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Přímá spojovací šipka 14"/>
          <p:cNvCxnSpPr>
            <a:stCxn id="205" idx="2"/>
          </p:cNvCxnSpPr>
          <p:nvPr/>
        </p:nvCxnSpPr>
        <p:spPr>
          <a:xfrm>
            <a:off x="3314880" y="2362320"/>
            <a:ext cx="343440" cy="1296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Přímá spojovací šipka 16"/>
          <p:cNvCxnSpPr/>
          <p:nvPr/>
        </p:nvCxnSpPr>
        <p:spPr>
          <a:xfrm flipH="1">
            <a:off x="4876200" y="3047760"/>
            <a:ext cx="76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Přímá spojovací šipka 18"/>
          <p:cNvCxnSpPr/>
          <p:nvPr/>
        </p:nvCxnSpPr>
        <p:spPr>
          <a:xfrm flipH="1">
            <a:off x="6323760" y="2437920"/>
            <a:ext cx="305640" cy="1220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Zaoblený obdélník 19"/>
          <p:cNvSpPr/>
          <p:nvPr/>
        </p:nvSpPr>
        <p:spPr>
          <a:xfrm>
            <a:off x="5638680" y="3733920"/>
            <a:ext cx="1219320" cy="609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ovací šipka 21"/>
          <p:cNvCxnSpPr>
            <a:stCxn id="207" idx="0"/>
          </p:cNvCxnSpPr>
          <p:nvPr/>
        </p:nvCxnSpPr>
        <p:spPr>
          <a:xfrm flipV="1">
            <a:off x="1828440" y="5028840"/>
            <a:ext cx="1080" cy="681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Zástupný symbol pro obsah 2"/>
          <p:cNvSpPr/>
          <p:nvPr/>
        </p:nvSpPr>
        <p:spPr>
          <a:xfrm>
            <a:off x="457200" y="1295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častěji používané operace v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3:34:13Z</dcterms:created>
  <dc:creator>IPI</dc:creator>
  <dc:description/>
  <dc:language>en-US</dc:language>
  <cp:lastModifiedBy>Tomáš Kloud</cp:lastModifiedBy>
  <dcterms:modified xsi:type="dcterms:W3CDTF">2012-11-02T10:55:35Z</dcterms:modified>
  <cp:revision>330</cp:revision>
  <dc:subject/>
  <dc:title>Snímek 1</dc:title>
</cp:coreProperties>
</file>